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C2F-9D35-4CC5-8537-FA2AC70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EDE-FE96-4B6D-8883-D7DE9BC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011-A86D-4CB3-8CC8-4958FF62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E44-145F-450B-85C0-3A771E58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0A1-5708-4108-AEFD-3A1C2F3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84B-CCE3-4094-9375-A72B7B63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674-F235-4388-9C66-1C67EC3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BC0-8B98-4F5B-A7FC-18245AB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056-028C-452D-A26B-9AADE8C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E2E-FAAC-4B8D-927B-6429AA9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AF4-868B-454E-A02C-3AC8A96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BBC-304C-4EAF-AC8D-C438BBB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7BB-F0A6-490D-B2D0-B137B74DE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4C Smoothing time ser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How do we make predictions when time series data is non-linear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random or cyclical, we use a technique calle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moothing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seasonal we use a method calle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easonal adjustment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(Ex 4F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moothing removes random fluctuations and makes it easier to observe tren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 are two methods of smoothing random or cyclical time series patterns: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median smoothing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(Ex 4E) an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moving-average smooth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oving-average smooth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averages of data can be used to represent the original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4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85840" y="285840"/>
          <a:ext cx="8572320" cy="6357960"/>
        </p:xfrm>
        <a:graphic>
          <a:graphicData uri="http://schemas.openxmlformats.org/drawingml/2006/table">
            <a:tbl>
              <a:tblPr/>
              <a:tblGrid>
                <a:gridCol w="1209600"/>
                <a:gridCol w="947880"/>
                <a:gridCol w="641484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mooth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3357720" y="1722600"/>
          <a:ext cx="3143160" cy="69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722600"/>
                    <a:ext cx="314316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"/>
          <p:cNvGraphicFramePr/>
          <p:nvPr/>
        </p:nvGraphicFramePr>
        <p:xfrm>
          <a:off x="3357720" y="2381400"/>
          <a:ext cx="311436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2381400"/>
                    <a:ext cx="311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3429000" y="3111480"/>
          <a:ext cx="30718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111480"/>
                    <a:ext cx="30718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6"/>
          <p:cNvGraphicFramePr/>
          <p:nvPr/>
        </p:nvGraphicFramePr>
        <p:xfrm>
          <a:off x="3429000" y="3825720"/>
          <a:ext cx="3143160" cy="6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825720"/>
                    <a:ext cx="31431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"/>
          <p:cNvGraphicFramePr/>
          <p:nvPr/>
        </p:nvGraphicFramePr>
        <p:xfrm>
          <a:off x="3286080" y="4500720"/>
          <a:ext cx="322596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86080" y="4500720"/>
                    <a:ext cx="32259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3357720" y="5286240"/>
          <a:ext cx="3143160" cy="69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86240"/>
                    <a:ext cx="31431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we use three points to smooth the data, it is called a 3-point moving-average smoothing. We can choose any number of points to smooth the graph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necessary that the time values are evenly spac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redictions using smoothed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possibilit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Predict the next value by eye using the last smoothed val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Fit a straight line to the smoothed data using either the 3-median of least-squares techniq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moothing using spreadshee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C: 2, 3, 5, 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2:04:05Z</dcterms:created>
  <dc:creator>08843474</dc:creator>
  <dc:description/>
  <dc:language>en-US</dc:language>
  <cp:lastModifiedBy>08843474</cp:lastModifiedBy>
  <dcterms:modified xsi:type="dcterms:W3CDTF">2011-03-26T05:58:33Z</dcterms:modified>
  <cp:revision>3</cp:revision>
  <dc:subject/>
  <dc:title>Time series</dc:title>
</cp:coreProperties>
</file>